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987-459D-4A05-981C-14574F26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365-EA7E-43D3-97BE-7A96323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F80-CD0F-43A8-865E-EE2FFB67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7BD-32E8-4A1F-8FA0-6B082BDF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364D-3620-4B31-B6BC-6DCC8BD5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C5B6-60E7-4A43-AA94-2A0EB5FF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D2B-7F55-4AB0-8941-F48829BE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109B-B290-423A-9BB7-021802C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0AF-1D29-4FAF-A08C-243B38C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09B-F644-438F-9DD5-08D0F905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EF56-9324-477D-BA8B-420EF5B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27C-DDA1-47D1-9825-4A5EDC0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8999-D85C-4341-BF09-B64527C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65D-71C0-456A-86BC-0FE74BB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DA6A-695D-48A5-9183-1520C2E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2833-1E9A-48A3-AF46-FC59CC7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B25-809D-42AB-851E-6845C877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F72-AFC1-456A-9E79-6F96430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063-2520-424C-84E8-21881D1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D27-198A-44AC-BA1C-81EEAFA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B7B-6BD1-45BF-845C-9030CC0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DEE-18FF-4C2C-8FF0-934A4FF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1D7-7F17-4C5A-9EC0-155ABF4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741-1182-4E97-B2D2-E8DDA17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AB185-87B6-4D2A-9BB0-9C8761B85D8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C179E3-A7A0-408B-89E6-D0394412B58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EL TEXTO NARR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cotidi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lite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periodí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literari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cuento y la nov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700280"/>
          <a:ext cx="8461080" cy="4763880"/>
        </p:xfrm>
        <a:graphic>
          <a:graphicData uri="http://schemas.openxmlformats.org/drawingml/2006/table">
            <a:tbl>
              <a:tblPr/>
              <a:tblGrid>
                <a:gridCol w="4065480"/>
                <a:gridCol w="4395600"/>
              </a:tblGrid>
              <a:tr h="59040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cuen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novel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Breved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tensió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Hechos relevantes precis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escripciones y diálogos abund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290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odo gira alrededor de los hechos o acciones de los personajes, lo que deriva en una mayor intensidad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fundiza y desarrolla la trama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54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muestra una parte  de la realidad: una secuencia concret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crea un pequeño microcosmos donde los personajes reaccionan ante  distintas situacion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77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se dibujan con pequeñas pinceladas sin profundizar en su psicologí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poseen una mayor profundidad psicológic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565360"/>
            <a:ext cx="194472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tuación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201636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arrollo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nu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565360"/>
            <a:ext cx="208944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en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2852640"/>
            <a:ext cx="7920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2852640"/>
            <a:ext cx="718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573360"/>
            <a:ext cx="2057400" cy="182880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ge el conjunto de acciones deriva-das de la situación planteada. Es la parte  de mayor complej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205740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unto de partida en el que se presentan los personajes,  en un tiempo y espacio concre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573360"/>
            <a:ext cx="217152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 el final de la histo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la se muestra la situación final en que derivan los he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lasificación de los personaje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3104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34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ersonal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articip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su psicolog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642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p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jes superficiales que muestran los rasgos propios del grupo social al que per-tenecen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gracio-so, el vago, el avaro,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dividu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n una mayor carga psicológica y se comportan de ma-nera poco previ-sib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incipale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quellos que tienen una mayor parti-cipación en la his-toria y ocupan más espacio narrativo. Pueden ser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undari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-nen un papel me-nos relevante y ocupan menos es-pacio narrativ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uy sencilla y es propia de los personajes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dond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ás compleja: ex-perimentan, reac-cionan, cambian y evolucionan a lo largo de toda la trama como 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dividu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La voz de los personaje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3104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4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in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ól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51332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ve para reproducir textualmente las pala-bras de un personaje (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: “aquí no aguanto yo dos días”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construye mediante la yuxtaposición de dos segmentos: la intro-ducción de las palabras del personajes 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-bos de dicción: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</a:t>
                      </a:r>
                      <a:r>
                        <a:rPr b="0" i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nsó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 las palabras propiamente dichas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í no aguanto yo dos día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este caso se trasladan las palabras de alguien a través de la voz del narrador: 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 que allí no aguantaba él dos dí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palabras se intro-ducen por una conjun-ción (“que”, “si”, “cuán-do”…) y sufren cambios las formas pronominales, los deícticos de tiempo y espacio, y el tiempo ver-ba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variante en la que un personaje habla con-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forma deja entrever el interior del personaje, sus sentimientos, sus emociones… Aunque lo normal es el uso de la primera persona, tam-bién se utiliza la segunda “tú” cuando se desdobla y habla con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espaci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3104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56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ís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coló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865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biert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aquellos espacios exteriores, de afuera, que son muy grandes o amplios para el desarrollo de los hechos y que dan libertad a los personaj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er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los espacios reducidos y pequeños, que limitan y estorban las acciones de los perso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mbiente espi-ritu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rodea al en-torno y, además, influye en las formas de actuar que tengan los perso-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 espacio es el que cada personaje tiene en su interior, en directa relación con sus senti-mientos, sean de alegría, angustia, frustración u otr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pacio cultu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Ideas ético-morales, pen-samientos religiosos y políticos, nivel social y económico, entre otros factores que rodean los hechos ejecutados por los personajes, es decir, es el ambiente socio-cultural en que actúan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tiemp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133720"/>
          <a:ext cx="8231040" cy="33112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204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o o históric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4908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la época o momento histórico en que se sitúa la narració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esentarse con datos concretos o deducirse del ambiente, personajes, costumbres… 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tiempo ficticio que duran los acontecimientos narrados en la histori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abarcar toda una vida o ceñirse a varios días. El autor selecciona los hechos que juzga interesantes y omite (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psis o saltos temporale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quellos que considera innecesari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narrado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449920" cy="5384160"/>
        </p:xfrm>
        <a:graphic>
          <a:graphicData uri="http://schemas.openxmlformats.org/drawingml/2006/table">
            <a:tbl>
              <a:tblPr/>
              <a:tblGrid>
                <a:gridCol w="2816640"/>
                <a:gridCol w="2400840"/>
                <a:gridCol w="3232440"/>
              </a:tblGrid>
              <a:tr h="6429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1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2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3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741200">
                <a:tc>
                  <a:txBody>
                    <a:bodyPr lIns="90000" rIns="90000" tIns="84600" bIns="46800" anchor="t">
                      <a:noAutofit/>
                    </a:bodyPr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rotagonista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arrador es también el personaje principal: biografía o autobio-grafía novelad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ersonaje se-cundari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dor es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go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pre-sencia los hechos narrados. A veces, los testigos son varios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sdoblamiento del 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narrador crea el efecto de estar contándose la his-toria a sí mismo o a un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sdoblado. Forma parte de la historia como prota-gonista o testigo. Aunque  aparezca la segunda persona gramatical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 dirige al le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mniscient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todo lo sabe. Aquel cuyo conocimiento de los hechos es total y absoluto. Sabe lo que piensan y sienten los personajes; a veces opina sobre ellos, pero no participa de los hech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bservad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sólo cuenta lo que puede observar. De modo parecido a una cámara de cine, el na-rrador muestra lo que ve. No participa de los hechos, ni opin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Orden de la acció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30680" cy="479088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356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l o cronoló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dia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 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8480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orden de los aconte-cimientos sigue una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í-nea temporal ordenada cronológicament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Los distintos acontecimien-tos se van sucediendo uno tras otro sin saltos en el tiempo, lo que permite un fácil segui-miento de la historia por parte del receptor. Es la forma utilizada en los cuentos popular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ión latina  que significa “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n medio del asu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relato em-pieza en medio de la historia, a veces también desde el final, sin previa aclaración de la histor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trata de un comienzo abrupto empleado para captar la atención del lector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800"/>
                      </a:br>
                      <a:br>
                        <a:rPr sz="32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-back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ospec-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 el narrador trasla-da la acción al pas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ip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-dor anticipa acciones, se adelanta en el tiem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pu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varias historias se entrecruzan a lo largo de la narra-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texto co- mienza y acaba del mismo mod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periodístic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noticia y la cró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narr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28240" cy="3989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narración es una de las formas textuales más importantes por el hecho de estar presente en nuestra vida cotidiana: desde el relato de una simple anécdota a un amigo, pasando por escribir en un diario lo que hemos hecho a lo largo del día, hasta la lectura de una  noticia en un periódico. De  esta forma se convierte en la forma textual más utilizada, porqu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o habitual en nuestra vida diaria es contar algo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noti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19880" cy="313380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892240"/>
              </a:tblGrid>
              <a:tr h="10382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095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so de actu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ontecimiento rele-van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interés del públic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 divulgativo.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o quién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Por qué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irámide invert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os datos más relevan-tes a los  menos impor-tan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2133720"/>
          <a:ext cx="8231040" cy="3381120"/>
        </p:xfrm>
        <a:graphic>
          <a:graphicData uri="http://schemas.openxmlformats.org/drawingml/2006/table">
            <a:tbl>
              <a:tblPr/>
              <a:tblGrid>
                <a:gridCol w="3456000"/>
                <a:gridCol w="4775040"/>
              </a:tblGrid>
              <a:tr h="7905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59056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icia ampli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periodista es testigo de los hechos y los valor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monios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objetiva: notic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subjetiva: comentari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narración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verosimilitu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consiste en hacer parecer unos hechos como ciertos aunque no lo sean; por ello, es aconsejable partir de hechos conocidos o vividos directame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unto de vista narrativ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que una narración resulte atractiva y logre despertar la curiosidad de los receptores, es fundamental lo que se cuenta, pero, sobre todo, cómo se cuenta. Todo va a depender de cómo se nos presenten los hechos, los personajes que intervienen, el ambiente,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Elementos de la narr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narrador o nar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hechos o a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personajes o personas concretas (si se trata del relato de una historia real, como una anécdota o una biograf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 o varios espa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periodo de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cotidian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nécdota y el corre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ontane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rge de forma no premeditada, en el transcurso de una convers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eve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es fundamental centrarse en los hechos relevantes, con apenas descripcion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presiv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predominan las funciones expresiva y apelativa, con llamadas de atención a nuestro interlocutor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ceso curios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un hecho que se escape de lo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den cronológ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los acontecimientos siguen un orden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echo pas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cesos pasados con predominio del pretérito perfecto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844640"/>
          <a:ext cx="8291520" cy="4673520"/>
        </p:xfrm>
        <a:graphic>
          <a:graphicData uri="http://schemas.openxmlformats.org/drawingml/2006/table">
            <a:tbl>
              <a:tblPr/>
              <a:tblGrid>
                <a:gridCol w="3970440"/>
                <a:gridCol w="4321080"/>
              </a:tblGrid>
              <a:tr h="2574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EAMIENT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l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la situación inicial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7589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D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suced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ocurrió lueg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67652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NLACE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En qué quedó tod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consecuencias tuv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rapidez de la comunicación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Es una de las características esenciales de este tipo de comunicación: la persona a quien enviamos nuestro mensaje escrito lo recibe en su cuenta de correo de forma casi inmedia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prontitud de la respuesta de nuestro interlocutor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Aunque, a veces, tengamos que esperar un pequeño margen de tiempo, no es como un correo postal que siempre va a suponer varios días de espera y va a depender de diversos factores, entre ellos la distanc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58040" cy="5046840"/>
        </p:xfrm>
        <a:graphic>
          <a:graphicData uri="http://schemas.openxmlformats.org/drawingml/2006/table">
            <a:tbl>
              <a:tblPr/>
              <a:tblGrid>
                <a:gridCol w="3683160"/>
                <a:gridCol w="4574880"/>
              </a:tblGrid>
              <a:tr h="12384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os día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s tard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 María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¡Hola!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42956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 DEL MENSAJ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s el saludo se inicia un nuevo párrafo, o varios, dependiendo de la extensión de lo que queremos cont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786240">
                <a:tc>
                  <a:txBody>
                    <a:bodyPr lIns="90000" rIns="90000" tIns="1047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RR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a o dos líneas se debe cerrar el texto que hemos elaborad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592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DIDA Y FIRM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cordial saludo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oán Corredoi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saludo,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8:29:42Z</dcterms:created>
  <dc:creator>Guillermo</dc:creator>
  <dc:description/>
  <dc:language>en-US</dc:language>
  <cp:lastModifiedBy>Guillermo</cp:lastModifiedBy>
  <dcterms:modified xsi:type="dcterms:W3CDTF">2014-07-19T08:54:22Z</dcterms:modified>
  <cp:revision>12</cp:revision>
  <dc:subject/>
  <dc:title>EL TEXTO NARRATIVO</dc:title>
</cp:coreProperties>
</file>